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6B7C-B05F-4969-B144-F4F7013E7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41D6-C9C6-4E3E-B180-74AFBDC3D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8256-A3C1-4FEE-BED2-E8D96F684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0839-6B9B-4503-99D7-61D582D00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DAC0B-3F31-4178-9660-D885B040E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AB14A-97C2-44CD-8124-BAB67DFD2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8CCE1-41BE-4FB8-9278-A983F0575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5D2C2-EF4C-4B31-AF0C-492975ED9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EB4E6-500E-4B8F-9851-C080D7BBE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923C6-8C6E-41A2-8EAE-E99A8FC49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C04A6-2094-42D3-B6E4-2B09B02EC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E656-B8E2-47B1-82EE-09FFB7513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16CE7-599B-428D-B52D-C6EA165D8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C73FD-44E7-4B2F-A326-9D9694A6D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917CE-68CD-4081-8A13-9499B2EBE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E2D35-4D10-4395-9D37-126ECEAA1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7AAF7-A845-448E-92D5-1B769F785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0656-5E97-4850-A005-9475663FA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C292-37C6-4F69-9619-5BF920F7E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F19F-0F27-4F65-8AC7-A7BAB973A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BDE5-9C31-4DD3-B943-0CEB08720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D44A-C9BD-46F0-B2B9-A081C945D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1E64-E04D-4E76-B7D1-768BB354B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2728-5642-4599-A022-E2FAE3094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2631D-68A7-459B-8339-25E2E455833C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65040" y="2620800"/>
            <a:ext cx="85917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666720" y="3692160"/>
            <a:ext cx="767736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92D45-900A-4E39-BFA4-D52B5D9D2D85}" type="slidenum"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e2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6e2d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1266840"/>
            <a:ext cx="776916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제 </a:t>
            </a:r>
            <a:r>
              <a:rPr b="0" lang="en-US" sz="5600" spc="-1" strike="noStrike">
                <a:solidFill>
                  <a:srgbClr val="6e2d00"/>
                </a:solidFill>
                <a:latin typeface="굴림"/>
                <a:ea typeface="굴림"/>
              </a:rPr>
              <a:t>14</a:t>
            </a: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 </a:t>
            </a:r>
            <a:br>
              <a:rPr sz="5600"/>
            </a:b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애학생의 전환교육</a:t>
            </a:r>
            <a:endParaRPr b="0" lang="en-US" sz="56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240" y="3884760"/>
            <a:ext cx="63975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대구대학교 초등특수교육과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최성규 교수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e2d00"/>
                </a:solidFill>
                <a:latin typeface="굴림"/>
                <a:ea typeface="굴림"/>
              </a:rPr>
              <a:t>개요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삶의 질 </a:t>
            </a:r>
            <a:r>
              <a:rPr b="0" lang="en-US" sz="3400" spc="-1" strike="noStrike">
                <a:solidFill>
                  <a:srgbClr val="6e2d00"/>
                </a:solidFill>
                <a:latin typeface="굴림"/>
                <a:ea typeface="굴림"/>
              </a:rPr>
              <a:t>(Quality of Life)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다양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특수성과 일반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1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정의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생 개인의 필요와 요구에 따라 학교 졸업 후에 도달할 목표중심의 교육과정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그 목적은 학교 졸업 후에 지역사회에서 직업훈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통합된 취업활동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주거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지역사회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여가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평생교육 등의 수월성 보장에 있다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School-to-Work: STW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상위 학교의 진학도 전환교육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교교육을 받는 장애학생에게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EP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요구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유치원부터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2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년까지의 모든 학생 대상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특히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 이상의 아동을 위한 전환교육계획이 포함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ndividualized Transition Program (ITP): 14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될 때 시작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되면 전환교육에 포함되어 있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2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실제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자기결정기술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전환교육 프로그램에 학생의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생태적 접근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환경의 중요성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별화된 계획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- McGill Action Plan (MAP)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의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단계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인에 대한 내력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꿈과 희망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두려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나는 누구인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필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      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우선순위 선정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4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지역사회 경험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;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업과 함께 종교와 문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여가활동 등 포함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5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서비스 조정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장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Pool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제 운영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가족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7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학교와 사업체 협력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3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제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7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차 교육과정의 직업전환교육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기본교육과정에서의 직업과의 성격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국민공통기본교육과정에서의 장애학생을 위한 직업교과목에 대한 선택교육과정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-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공예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포장 조립 운반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농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전자조립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제과 제빵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정보처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상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이료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(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시각장애학생 중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)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질문에 답변할 시간을 주어라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!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338560" y="1627200"/>
            <a:ext cx="43923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30T20:27:11Z</dcterms:created>
  <dc:creator/>
  <dc:description/>
  <dc:language>en-US</dc:language>
  <cp:lastModifiedBy>f</cp:lastModifiedBy>
  <dcterms:modified xsi:type="dcterms:W3CDTF">2007-05-28T01:15:38Z</dcterms:modified>
  <cp:revision>6</cp:revision>
  <dc:subject/>
  <dc:title>제 14장 인지전략</dc:title>
</cp:coreProperties>
</file>